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13.png" ContentType="image/png"/>
  <Override PartName="/ppt/media/image37.jpeg" ContentType="image/jpeg"/>
  <Override PartName="/ppt/media/image38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39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  <p:sldId id="278" r:id="rId84"/>
    <p:sldId id="279" r:id="rId85"/>
    <p:sldId id="280" r:id="rId86"/>
    <p:sldId id="281" r:id="rId87"/>
    <p:sldId id="282" r:id="rId88"/>
    <p:sldId id="283" r:id="rId89"/>
    <p:sldId id="284" r:id="rId90"/>
    <p:sldId id="285" r:id="rId91"/>
    <p:sldId id="286" r:id="rId92"/>
    <p:sldId id="287" r:id="rId93"/>
    <p:sldId id="288" r:id="rId94"/>
    <p:sldId id="289" r:id="rId95"/>
    <p:sldId id="290" r:id="rId96"/>
    <p:sldId id="291" r:id="rId97"/>
    <p:sldId id="292" r:id="rId98"/>
    <p:sldId id="293" r:id="rId99"/>
    <p:sldId id="294" r:id="rId100"/>
    <p:sldId id="295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slide" Target="slides/slide23.xml"/><Relationship Id="rId85" Type="http://schemas.openxmlformats.org/officeDocument/2006/relationships/slide" Target="slides/slide24.xml"/><Relationship Id="rId86" Type="http://schemas.openxmlformats.org/officeDocument/2006/relationships/slide" Target="slides/slide25.xml"/><Relationship Id="rId87" Type="http://schemas.openxmlformats.org/officeDocument/2006/relationships/slide" Target="slides/slide26.xml"/><Relationship Id="rId88" Type="http://schemas.openxmlformats.org/officeDocument/2006/relationships/slide" Target="slides/slide27.xml"/><Relationship Id="rId89" Type="http://schemas.openxmlformats.org/officeDocument/2006/relationships/slide" Target="slides/slide28.xml"/><Relationship Id="rId90" Type="http://schemas.openxmlformats.org/officeDocument/2006/relationships/slide" Target="slides/slide29.xml"/><Relationship Id="rId91" Type="http://schemas.openxmlformats.org/officeDocument/2006/relationships/slide" Target="slides/slide30.xml"/><Relationship Id="rId92" Type="http://schemas.openxmlformats.org/officeDocument/2006/relationships/slide" Target="slides/slide31.xml"/><Relationship Id="rId93" Type="http://schemas.openxmlformats.org/officeDocument/2006/relationships/slide" Target="slides/slide32.xml"/><Relationship Id="rId94" Type="http://schemas.openxmlformats.org/officeDocument/2006/relationships/slide" Target="slides/slide33.xml"/><Relationship Id="rId95" Type="http://schemas.openxmlformats.org/officeDocument/2006/relationships/slide" Target="slides/slide34.xml"/><Relationship Id="rId96" Type="http://schemas.openxmlformats.org/officeDocument/2006/relationships/slide" Target="slides/slide35.xml"/><Relationship Id="rId97" Type="http://schemas.openxmlformats.org/officeDocument/2006/relationships/slide" Target="slides/slide36.xml"/><Relationship Id="rId98" Type="http://schemas.openxmlformats.org/officeDocument/2006/relationships/slide" Target="slides/slide37.xml"/><Relationship Id="rId99" Type="http://schemas.openxmlformats.org/officeDocument/2006/relationships/slide" Target="slides/slide38.xml"/><Relationship Id="rId100" Type="http://schemas.openxmlformats.org/officeDocument/2006/relationships/slide" Target="slides/slide39.xml"/><Relationship Id="rId101" Type="http://schemas.openxmlformats.org/officeDocument/2006/relationships/slide" Target="slides/slide40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5CA-41D9-41B7-AB5A-C0A48336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9E6-EE03-457D-BBA6-EC1B5E66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BE37-7CDF-497B-94F0-D1D351FD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413DF-5EB2-484F-94B7-27508E7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4F343-633C-4EF7-A32B-9B0D3273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75A77-A117-4CE8-A1EA-D805DF29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D01F3-FF47-497E-B1B2-125A8D2F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08EC2-A54C-4E09-92D2-3477575D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E70B9-4AEA-41C6-8158-30F8BE3D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7ABDB-74F5-4D80-9C44-7DF14561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59E6E-043C-4AEA-8AAD-F64AF21C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2B376-28D4-47D0-8FE3-EF36F7D6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C59-EF72-4737-B49F-4290F162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FF626-A298-4280-B670-B728609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64250-7E5A-4546-92D2-EC56919A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11183-D192-4E85-BDB6-BD769E92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9724A-C5D7-4350-AA32-5D45A7A6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70002-A006-4836-9768-DEA052CE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5E4F7-9DDD-47B0-80BD-BDDBF5E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D9A33-1709-4BB1-AA48-CA99B88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B395C-E35E-455D-B03E-7CD436D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AEF04-BBF1-4893-B624-0C3B0C7F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121FD-CAD8-47BF-8C3E-968BD3A2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1D0-106C-4B1A-A6C6-0C0D846D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19DA3-7604-48BE-98D9-D3F8EA79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DA43C-3940-481C-92EB-D8AE245A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94628-DC75-4FF8-AAB8-41A7B157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AACA9-EAB3-4AF0-9CA6-DE60D983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31E4B-13FE-4DD5-A1E0-E814097E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0CCBD-2DC0-49C9-B1CE-0E65A928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6AE45-C8FE-4E4A-A2B3-A012DA5F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74C78-BAC8-4619-BEE1-F8CBB0BE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D860C-2775-4621-822A-7FAFCC2E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7B7F3-65BC-42EF-922E-28EC8A45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A27A-02E0-4D1A-9B8C-41CFFADA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C8218-C344-4FCA-A92D-40851077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F0CFC-99DB-41FC-9EB3-04365F53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86B60-12D3-4A55-8CA2-5D96B64E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B1206-2FE8-4B59-971C-D1F14059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2CE9B-C30E-459C-BA9D-AEF7FB47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0C6FA-483B-4AED-946B-174D9C40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F3DBA-785D-47C6-824E-EAEB458B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02D0F-3EAA-4CF1-A6C7-5B907FB0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B9401-95A2-4776-A430-99153721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AB1A2-A486-4DBE-B79A-3489AE33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A8C9-D8C7-475E-A9D3-0EE632D7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11FE2-0BDC-474B-9F72-CC77B1BF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4C17D-01E8-49CD-8255-E527963C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E8ECC-277C-42EF-8216-8C03B5BC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FAD94-39C5-463B-8C9A-C482DE32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73A75-A476-431E-8002-67CCE790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9931D-DDB5-4E33-8C56-DCAFE832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BC9DB-7E86-4A7E-9462-E1AF3F6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E6C95-6FE2-448B-8F28-62C04788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4BD66-6860-4796-8913-AC41E7D9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91ABB-D62B-49B5-8EA9-DF0C262E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849C-3BC6-423E-9C82-2570DB32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6DA7C-B15E-48FE-B1DE-0CFD4B36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E040C-BD14-4F31-A019-4EAF296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5B1AD-8F7A-4150-96F8-B037BCD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E6645-FFCB-49E6-B0F5-5185DAE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E3992-B507-4B2B-BC6A-9C86A969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92C75-4377-4A9C-ABB6-2EE13129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32B45-CEA6-46E0-828F-C5C3CB5D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F59FE-E522-473F-8BA8-D2448B1A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549E4-C6C5-4129-8983-2B925282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2A9F1-4A4B-414E-BE74-174D63F8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FB57-B0DB-4375-BED1-50032740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6BAF6-C438-4085-BD33-C9C12D2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8C793-B27F-4FEA-A6B2-18956FDE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C2B04-E8E6-468F-B715-DC75C5C2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4CE02-0E9D-4498-A3CA-B02D12FF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4F93B-8A82-400C-B4E0-082C9931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A9B55-41F0-4712-AA58-124C867C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06983-F55C-4095-836E-7B89348F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2925E-1496-43D0-8138-5D03D1A7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765DC-70AA-4DCD-9024-923F7A0E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6F524-E69C-4C8B-84C4-7ABDD61C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AADB-6970-4909-A1AF-E72A7C9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4BA85-13E8-427F-B04E-3B86CF30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68E68-B81C-4D14-ACC0-E451610C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C51E1-234A-4510-ACAA-AF85AB50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44ED4-8604-47BE-86AE-D86DB16D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DFF5C-76B9-4369-8099-1F4FC375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A4F43-1C89-44FF-B0DA-DDAFA8E8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9360F-41E0-497F-855F-62703E95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0D3D4F-979B-4EB0-990D-9122CC2D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74971-BA1B-4BD7-AA17-7BD84E3D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C35BC-B09C-4B7E-8BC9-8F8C18D5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D1E1-190C-4ECA-9CBF-B3E4D6E7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39BB2-E38E-45FD-B022-BB4CD82A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0A736-7F26-4A9C-A399-75110ECB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C09F5-7A54-4838-8035-8596A5AF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FD0BC-81BA-4081-8BC2-E58E6DD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A2130-F175-416B-BCE9-685793C8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99D0F-A222-496C-B3A3-F08F3280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5C321-4F2E-4534-8FCB-D7698F89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128A4-6721-4B45-B36D-732513C2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38C96-EC18-4CF6-A921-D00DDAA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939763-1C95-409F-9736-3A592A2C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0E32-7145-4DEF-8F16-FFD4BFC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CEA1C-8DDF-46C9-9908-2992DCBE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1FABF-35F0-40BD-89BC-7EE1168C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D7309-7C81-4FBB-9C67-4941227B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BB464E-F7FF-465D-ABBF-0D8E0637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7E33F-24E3-4D52-902D-0D617F6C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D613C-A9EF-4F07-9179-A40936E0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9FCFD-113B-4548-B680-A8259FFF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7AFB2-96FD-47CC-AAA0-EC76A2E3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35B4A-E042-48D9-B881-F258E1F4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D1706-EDCA-461F-87A5-91165BE6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9A1-5044-4149-A1EC-635A1AB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7B7D-2A9E-4FEF-8D60-20C69EB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22049-5FD5-4E60-B7DE-326E7288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E35AD-AC8B-4D78-A4C4-26573BB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3CFFF6-02F5-4145-9C8A-BCDD875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E3B31-D5F8-417F-8C6A-B6A6F67B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36309-2CA4-4D5C-8E76-B6769230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9A38D-559B-492B-8895-A64255A8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73179-0395-44F2-8DD0-9440AE01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37A6C9-0D6A-49BD-8B78-2C1C87F9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3C2E2-A6CB-4793-A7BD-3971913F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C8352-683F-4E20-AF50-4EE0FD0C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81DE-0F97-4747-B236-68BF99D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9EABE-7FA9-4D48-A91E-F807FCFA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016EC-23AA-497B-91C6-46E886B5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F42BF-FA88-4828-9C85-3C7364C0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5C931-6A0F-4B91-BC4D-3600FEB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15D01E-68AA-40FB-8C7B-FCA26E39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FF448-D952-41F7-8AA9-EE8CB6B7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9DEB1-52F6-4CF1-9434-45D2BF70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7BA49B-71F5-4BD9-AD08-42BC5962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344CA-8376-449A-AFE8-D23BFED9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882857-3EAC-4304-B24F-5CDFBF73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A183-9FDF-4CF7-A3CE-3BEE7863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4AFF3-7B62-450D-987F-CCBA1C22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03178F-4448-4BAB-8FE0-A179AF8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27485-2770-4455-8660-90E732D0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E7556-8294-4CCA-90C1-DCC807A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A77407-1FEF-4C3C-AD61-29C8FF3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63D01-BD41-4E91-9436-78C2933B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81924-8F06-44CB-A4DC-16620579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F60E5B-5FFE-4575-93B6-73B4DFA4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2037D-F9F5-48C2-A1EB-5D50CD30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B1151-A6A0-41D9-8DDD-32188413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AF61-B08B-404B-9C7C-ECB292EA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BCF0D-71CC-42BB-8ED3-B7AC9707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38BAF-7B43-4791-BF6F-D28D542B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18D94-3FE1-4602-A376-ADB290A9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C13ED-2BCE-469E-B389-00450B13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50C91-7A72-4CA8-9794-02F39796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E87E6-AC8A-49F3-88B9-1E8180E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1E1125-05C2-4522-AE15-B04920F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2AACF-39E0-4201-B964-4ED6269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25644C-99DC-4173-A7EB-27E7B628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73FD9B-1F32-45FA-B6AE-5B1402B4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6553-E67D-4787-B5A6-566A5FFA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2AC1F-A2E1-41E0-A275-DDD5AF91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62210C-FCF9-4D75-B91D-E583A9BD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B60F34-4E53-422E-8712-37423690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B7A8DA-39A8-41F6-B44F-2F40D1E2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BBC97-DCDE-4B08-9AFE-683B458E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BCBF64-4488-49AB-AFA0-AAA96FD0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47826A-26B7-47A4-888C-4719AB40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2D0949-91E8-4CC5-B74A-6AD90E6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CD3C72-57A0-44A3-AE94-5A5D22D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677800-FD4C-4A01-A859-AC158F9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4A4F-64F7-4F15-9CDC-7024C9DE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9FFAE-6246-4928-8EF9-098D24DB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8FB20-0957-4DEC-822D-F32626F6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B3819-DC33-477B-A567-60DC0819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6B3FDF-00F3-4CBB-A84D-F9E482AE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48F833-DCE8-4CB0-9806-855C815F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FCE92B-25FE-4AD2-A563-A6D8CC04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999977-94E9-491D-BE9A-EDE8B6E1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1855A-5C44-45D1-AB6D-C2A717F0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65C5D8-8200-46A8-974F-BF08458C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ABB8FF-31A2-49AE-BD2F-0BDE3A9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966A-7551-4F67-8865-E7F8F41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07865-89BA-40AB-AE8A-97909100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5816D7-243B-4C60-8240-65E7C259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732A8F-FCDB-4EBA-951B-D463B795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16811B-D5C4-4F2A-90FF-A466FED0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D40007-7253-476A-AE07-41A5D152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B0BC15-14D7-4FB6-BD29-002131F8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0DBCCD-A76D-44AD-9403-454D0912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7B17F0-5E34-4ECA-AA7E-99648671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85ACF9-4848-4F5B-8956-5344E57F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62CE90-F32A-4DC7-B7AB-0537A8A7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DE97-FE5A-4DE6-97A0-8CAE590A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355E22-0B13-4553-9DF9-FDF679A1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AEDBEB-7D5A-4AC7-A100-8FB44A1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4BF568-C10F-41E3-901F-64EED68F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99CEAF-32A1-4855-AEB5-8CAB44CD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D26638-50B8-4792-B3CC-FB6D9C05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37012B-CC8D-4286-A2AA-A4FBAF5F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744989-90E2-46C5-ADFB-DE3C133A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12A6D9-6D91-48CF-9ED5-508958D1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166E55-235F-427C-B52A-D9F633D5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0FC843-708E-4C3E-858A-76907D04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4E80-67DC-4DAD-AF70-41320C8C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2B2063-32B0-4633-AAFF-CDBD21D8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3B4A9E-E27E-4801-B3B7-1A8638D0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3A779D-E93E-4FC6-98DB-4744C3D0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CBA05A-C414-4505-80D7-2FFA757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FDD588-1841-4720-BF6C-E49D504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073E49-DD33-4FAA-892E-8A1FB798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6D99F1-2F10-48F8-B60D-1AC3448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9D6471-1FD3-4190-8326-185FC25A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9E3EF7-D8F3-46B7-8453-62853D06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6E01BF-68E6-4381-86E3-1EEF1D09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3A7F-4036-47EB-9FCC-5B603270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C7C9BC-FB25-4F81-811C-200FE249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E50E6E-AEC5-4963-B1E9-41D2BFB1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206D8E-F0AD-4D96-9B53-845F2B6F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A9546E-9715-4E34-8FE7-E0F2A849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A184E6-C8E9-46BF-B054-1FD25C7C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E9F1E0-3119-433B-8F0F-D618CFA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8EF2DF-547C-46C9-8435-18EDC07D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A1DC68-2C99-4CBD-B2DD-C3968F35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9578F5-75A8-4256-9A28-4CA5D3BE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CCA99-4A7E-40E9-9D55-E7691E4E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3D0-0C85-4569-BCFC-09F1CD42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8719-7FE7-4D66-B6BA-02A851E2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958BA7-FF9B-4039-9E67-EA4B46C3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CB26B6-EF42-4DC6-9881-1E694F1B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626184-240C-4F20-AC66-8DEE08A6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B834ED-E079-454E-8178-23626BBB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AE9809-6B6A-4725-8B05-6B9A55B2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2EF8FE-455C-45DB-A103-DC35E64C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D2A4AC-34A2-43C5-8CA9-D5EFC09A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6CD598-F6D0-4E21-9B49-C038C976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D894EF-604B-4392-BB25-4725C107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FA6EED-AA22-474D-8AD5-8D2B626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1629-BCBD-4BE9-B037-14C2402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375398-FCBC-450C-B62A-3BFA7F8A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E063B1-ED02-48EB-9A88-DBC58643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61578B-75A6-46BB-9E24-C7234B5F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107E76-B154-4852-A3C2-33C584A3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1374B2-061E-45F9-9894-C66A70B1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A8A21D-0983-43D7-BB26-E0C11474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E652FB-778E-4E19-8F33-A02BC793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FDDAAD-310E-4A9F-B4B6-E2E930A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FFD393-881F-41AC-A653-194C2945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9F37A0-F68F-4A5A-AD92-BD032746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A56F-07B6-42BB-87BA-C9EBE63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258C08-63B2-45ED-9267-D131A78E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ABAD59-C412-43B5-8863-D1E308A4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2B36D7-934B-4573-B5B2-F811BB6E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B706B9-FA8C-48A6-937B-7415C224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AC031E-29D7-4D9B-93A2-4085E729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557342-C70B-4194-B857-84847DE2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CFD5A8-AC02-414B-8C1B-FAC392D7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61C7AB-7089-43B8-8980-BB129753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0E95BA-35A7-45B4-8756-6110990B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31A97A-8ED2-4F1E-B16D-94DE943F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2BB8-2D38-4A78-8EAE-26DD722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56AFF2-C244-45EE-B8F6-945EF7F6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BA752C-CCB2-476C-ABE3-7179020E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1A12F1-75CA-4678-9BBF-EAE9C6F8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6ECCB0-506B-4ADB-923F-149AB2ED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E150DE-6686-4B65-9A9D-94077324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8D2673-37AA-46C8-8C6E-70EA5AAF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619F02-B318-4ABC-9F79-5DEC0622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742ADE-D644-4F2B-A0AE-2D19C2F9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87F84E-39C7-46EB-8CB0-052A7857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FD80D2-CA8A-4BFC-A450-BE963D66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BDA7-8232-44E6-A4C5-3DB92AB7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B1EF40-302E-47B7-B7E0-B09862D9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4DC5A6-BF84-46B9-9F8D-B7BDEF0E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58C0F2-85AC-4F43-85BF-59BD956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0FCC44-D1B9-489F-B307-471DA863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C578BE-6F69-4BC5-A5B4-D7CBB73A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3B679A-9F5D-4EFB-982A-E2239665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269393-C5C1-405D-8F6B-7D565FEB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525709-1B0A-442D-9208-7E04A725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C9C5E4-916B-4C47-8FFE-C7CC8DF7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CC322B-BD65-44F8-9C33-44D9DDAF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6BF2-8BD7-4092-97F7-AA6461EA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10A1EE-52B6-4C3E-A9F9-4E8A0FD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11C359-155D-45D8-AA87-03BE8AEF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5AB8D7-0B37-4050-A2DA-244E734C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56B1D1-20E4-4D58-819C-665A508A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4332D7-61E0-4C5B-9EC0-A088DE4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6BEF58-3E6A-47CD-BDA6-E68CE25F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9ADC2B-02C5-4AA0-BACC-2321BDBE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30BB7D-5B61-4D3C-9A76-442CC447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474F7C-74FA-43E7-AE8B-D4865C84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59A686-D11A-45B0-9CF6-1EC0F6CE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7266-76F5-4931-A8B6-7EAEEBD2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B0F9B1-9F5D-4D04-9CFC-319E1879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89D3E9-EAF0-45AA-BB45-49FC6BF6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7F4CC7-D32C-44E6-95DE-F44DA4DC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A334DB-1A9F-4DEE-80AF-519E87AE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373F90-CD1D-4A76-A2D9-11E5E60B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501361-66DC-4506-800C-AC2C7C94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6215D8-80ED-4ED7-9EF4-CEF1A6A2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30D47D-38E6-4139-AB2A-307CE2A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2FB187-4334-4232-939E-B6C7822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B4A495-2C0F-46A0-A647-13F4444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F2D3-9966-4825-B924-03B5C261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11D520-7534-497E-8DE4-3A12DE42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DA7F53-D1C8-4793-B1BA-1DF9CB61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FDB107-F44F-4BE4-8077-639338CF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F910C7-CB41-432A-8DA3-FE90AEA9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3E69EF-F757-4435-A46A-A4B52FD5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A2ADF4-6079-4E2B-9073-EB6AB141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EF3A46-8299-4A69-A5DB-DC76F67F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0A5598-DB55-49FD-8CB5-167ED49B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A7B7E3-517A-4773-BD4D-C3E10D4C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431702-31D2-465D-A5B3-DD328BA9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9A05-194A-4FD7-B226-5B524783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BEC3C1-FD28-42FA-8DD6-FEA3A07D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3B0C07-78C6-49B3-92F5-6669C72F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7AD205-8E49-4F5B-B87C-3207A99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3710C5-10ED-446A-B14C-25AD22CB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20EC78-B7BA-4FEB-ADF6-7484E46E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DA6179-04A6-4A06-BAF5-D1F97803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9519FA-02CB-4157-862B-AE921D89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91533A-15FC-4240-8AD4-4F050D16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7E1224-A0AE-4FC2-8C31-7E97E9F4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F394BB-60F1-4070-84CF-E790E2F3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C9B4A-6E37-4373-8327-90914948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F26312-830B-4AC6-BF85-BBCE6815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B5113E-A9B8-41AE-B469-CAD776DD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914D92-DDA3-4B4C-80FC-DF08F29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013CE9-F5D1-48F4-A04C-DB7EC615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2911E8-71FC-4498-A6C9-DDD00843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BB34B3-CC9B-4630-9BC9-2DF6B0AE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9865C5-9EF2-4AB7-AEB2-B972E0AB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2B554E-B772-42CE-95E5-5E9D0650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109805-9F17-4055-9544-73FFBB6D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8EE871-16F5-4982-965A-59789B7F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4A2-118E-493F-8BD4-E4620FA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3116-B83A-429C-BEE3-00DA1FA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D6C189-4B41-4663-B037-44A183FE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ACAD06-9EAC-4C7B-B6AA-A1758C11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1BDB23-DE3C-47E7-81CB-92465DF4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5B2E01-A291-438B-8B8F-AC51FC9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BF4EF6-6A43-4030-AF0A-109306D4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24A65A-C40B-4A4F-A91D-1C85811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FEA339-15DF-4EE3-94A3-C30FB7DC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A34163-6542-447F-A966-67540F85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16985D-200B-4D11-9401-2D0563DE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DBDAFC-D6E6-46A8-BF92-D5CA0F12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30AEE-675E-47A7-A262-D7BD86AF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F14E36-8E1D-4B18-94EA-A34DBC34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7C939A-ADA7-4948-9BFA-E355287F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FA3D33-87BC-493F-A97D-11829C61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23690F-8971-478E-B761-8DA08C7D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0D4C7F-2B38-4ECC-9722-EFC9C9DD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123DC3-1495-4E7F-B340-ECFD5E65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467164-49F9-40A0-B0C1-DCDF7304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1AF260-6DA0-42E1-AF98-92E6427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D3FAB7-F07D-4A74-BBD8-2F0981A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215310-557F-4D1F-955E-AD3E035A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E4BC-3C48-43BA-84B1-608BA192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C21F9E-2ED5-4137-AE3D-0705DD3C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082A84-0F5A-4722-9906-FA8A2DD2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91BCAE-4658-40A0-A6EE-3ED78A55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A9CA14-67C9-4934-9395-E07DCA24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82DAD5-3FAF-41D9-865B-6C56804F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D2EAFC-8CBD-4390-BBFF-5E0C656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DFF2D4-7FC6-4AF1-932D-3FA7888A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2164F0-9FDC-47F0-A9FD-5DBCCD8C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F8B2EC-2ECA-46DC-ADD8-EE4DE56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5407B4-306B-4EF5-9637-3CA4A3ED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4A400-CEFE-40DE-9BB4-334EE283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6B4460-782D-4C30-8437-F2087F70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229BDE-1023-4F36-B9DB-76C69FA0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F925F8-7A60-4865-B155-D37B1D1E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E9D42E-7AC8-4501-9A12-32312B6D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A7804E-F45F-4D04-9BDF-59A5940C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AEA2CF-832B-4FD4-BE7C-4878E526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BAECC0-EE46-445B-86A9-083C78EF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CA3A5F-2EF4-47ED-8B4A-49C4DC16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0594094-CE41-47E8-A94C-AF43397B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8BAE90-813C-4264-BC6E-D0F3053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6891-2471-48AC-B7E1-68415EFC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81B077E-8734-4D22-84F9-9462DAD5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0D2705-2A50-47A1-97BC-174D9761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F873CA9-635A-4AE0-A94B-6EAA16C3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BC8E2B-2F78-4591-9633-B93DFAE6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141CBD-FC22-49DB-AA06-B46A575C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8E4D5D-1579-43B5-9E4A-2E3735AD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5C366C-2B6E-4F61-9E59-D196586A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A991540-53D2-420C-8D63-728B3B64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CA19BA-80FF-42F0-9A16-5D425C48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3B2CBD-CFC2-4606-A85E-F242D958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8C84-0B51-4A47-8F2F-1DEED2F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8517E6-A6FB-428A-B00D-E5258292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5DA704-A45C-43B6-BD6C-FF1ADF4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0A01DB-9D71-43C3-A085-121D9C6C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9791A6-2D77-4DB0-87CA-37F4C635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3FFF98-F249-43F2-905D-56E5824F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CB090B-7CD9-44C1-BAEE-FC4693A1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001269-E367-4B76-ADDF-F89706A7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4410F3-51B4-4D59-A393-BE10B900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B64AC07-CF58-40D4-A877-3A7BEB9C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D40BD81-96E9-4F7E-9782-1AFBAB7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D583-E7BD-4413-B833-B14C0F2A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12B2F5-A2D7-4377-A313-81DA1311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92D59A-8825-4807-ACDD-3E68537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7920BA-F99E-4E84-8D0F-A3716145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6482B3-D52F-4475-8C00-AF6C5494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ECBA96-61C6-43B5-9D62-F82950A1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844108-AF43-4075-8581-9E7A8BC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4F263D-028C-43DD-B208-733EEDDD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671EEB-1CB5-45B1-81B6-745F7BD0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61F2EF0-CA58-4847-BBE8-F1787867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541E9C-3930-42B0-9DC7-32E5A75B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EF868-5FBB-44EB-9C27-D773D5B9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26136A-7B96-4099-8653-11EAC71F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985113-B330-478E-A251-5B00B1B6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9B8D75-4DE7-43C2-AB5C-CCDC0F9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6812A2-C9F6-4AA4-B010-D94BA33C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CA58F3-7D1C-479A-ACCB-F5CBE115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AC47A6F-3339-4014-9183-B3BA9D1B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B5379C-1F32-45F8-9770-12CE6A6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092C9F-8AF2-4B7A-BE00-59DB4E55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46AE97-C5DA-4E0C-AFE8-14F1E67E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875F98-952B-460F-8129-AB163D05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8DD0-12EB-428C-B273-6CE5BC99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9F4902A-BAF0-4297-B631-0613E728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A4023D7-45B1-4A5C-9284-1B99F2EB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C56DAD-2FD6-4AC9-A112-8EAD7560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12C758F-3852-4472-B50F-C3670477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114A0E-3E48-4EC3-AF40-4F43C2B2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CEA8EA-8E0D-4FF6-972F-FB7891AF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58833E-69CA-4ADE-84A8-BC286DA8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5ACC7E-7FE6-4FF0-BC21-43BA17B3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046EB14-BA22-4F86-87CB-F9FB009A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0B36E8-D608-4363-A9F9-EF3911C2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0949-A711-4264-813A-F53A4A12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578406-99C3-4BB6-A605-27472ECE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8F761A-F71C-464C-9993-BACD9AF9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68F58B-AD8C-4835-AA0B-AB80DBC2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F1A5E64-F6FA-4642-B408-FEA578BB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D541CD-7F7F-4067-BE34-ACE3C165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9268B2-1774-4302-B57D-2ED45BA5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2FEC5F-10B7-4903-9B77-649E9555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80AEEE-6E97-4AE8-B587-583F51F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91748C-F51A-4784-AAFC-D7437755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95B1B9-51C0-48BF-A763-D52908F7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24A-AC17-4F88-8955-2D4F5C93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5A5A2-8752-401C-AF38-D221E28B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126A0C-E0B0-4CEE-9DB0-445C1409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BA3F89-4593-44C5-85CF-6F2053B1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6E164D-5C9E-4479-93A4-FA31BE3F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F61641-6D80-4D3D-92DA-E304C755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5AA46B-2B2B-4A58-9249-44F19DB0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268C3F-E449-4CAE-A975-94C8B1BD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7631D8-A779-4A64-AF3D-80103CEC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14A83B-5231-4837-A311-F64CEF3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B39E3E3-4613-4A0F-B36D-8D715F75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9372AB-47C6-44C7-907D-7BC081D7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8AFA5-E157-4464-AF4D-16B7C8B7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61B4E9-4518-4F4D-866D-BC020998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4DBB33-DE8F-4338-ACCA-B57A8A5A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3B3705-03C3-4F54-BF67-5751B0F9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4E3FB0D-E705-42AB-A693-69BAE2A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3F88D9E-4A42-496F-8797-C64A67DF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8D4ADE-A50E-457D-B74C-EBEA1C71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C909D5F-9C47-4ED8-A4EE-D4863A83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835B321-7FAB-4760-BA0D-17E80D57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DF7F64D-5CFA-497A-9BA2-8A3D2382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075937A-330A-4EF2-A4A7-AF7ED2A6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8841-ECC1-4694-B6D0-A873FAA0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8AB7AE-B1D4-4319-B8D8-826DC94B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5B633C5-C010-42A4-83C7-56865E6C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DCCCE5-AC09-4EDB-8FA8-D5404D87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47D5F7A-E39E-4C6C-98F7-17733160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62B316-0CDF-4FC0-A429-A90A4474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D69A541-F7A8-4217-BDEE-B22D5BF5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B82FE9-6834-4E08-9BDD-7F7D5E59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FFA911-2734-458D-B282-FEB4660B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E727EC7-7B8E-4CDA-831C-CB6E8C6B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1A74E6-E79B-401A-A16F-9FB45E09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5C0D-3907-470D-B82E-8704221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A336E2B-66D4-455C-AA3D-31367A52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C357187-632C-434E-954E-0A786B49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36ECD2-F179-400E-BC2D-E70050C6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22451C-64C1-4AB9-BE2D-AE82D1EA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2B977D8-9D11-4947-9B63-96E5A094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D13E688-15C5-47C9-9551-AC36B15B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166EB85-6EF8-48FD-BC5A-23187883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0DD6CD2-85DF-43E8-9CFE-34D2E5C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DAC891-B1AD-4973-943D-58D4D278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62745C-CBA8-4DD8-A876-47D34760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DA287-0487-4794-BBD8-4F1A5D84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2A050F0-2544-4771-8CDA-C035A602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B8058C-C93B-4D53-89E1-DCC79AC4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E34045-E976-4249-B394-444BFD24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18D7CF0-17FA-4526-90F6-8FF0C37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2D8645B-6B5A-4F28-9E47-332FEFD3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E9DAD65-9679-484A-929A-907FA4E4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5DB89A-A3A0-409E-ADF7-19C407F1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C41786-3522-492D-B4AE-C11308AF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0D3E46-E060-4008-899E-D8EEC9C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4DDFC38-4CD7-4E31-A2B3-EC33934C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9C15B-3F5F-4E33-AD4B-ECE9584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2B4211-AB42-471D-B364-6701458A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46E3EED-1DC7-4F90-955B-DED68A22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5A1AFA-890D-4B6E-9A91-1B86D96F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BB860D0-2366-4371-A607-F844AF0B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41D4EF-DBE8-40FA-BEA6-D2382BE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FAA22D7-38DC-4845-BDCF-2364B552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0EDDB2-2F07-4DFC-A60C-83C6D4B5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FF63AB-8D48-4F4A-9F77-A59EEED5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210549-8B1F-426F-978F-34630EDA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09F3096-0F3B-4A75-A96A-A667C2DA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3C83-A1D4-4458-949D-B4516F3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A4A410-D07C-44F8-8F9D-4AD4D713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E55767-EFA9-4421-A48F-1F62730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0D7D3AF-6050-4171-B308-59550A44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0304F1C-8704-4F60-B4E2-BFD61296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D1BC4C-A8FB-4F6A-8E92-6B2F37D7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F7224F-AADE-4C53-9AB0-CCE72ECE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93467E-5823-4764-85B5-C8BBED3A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82DFD5-7CB6-4B21-8FB0-ABD3895C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EE6BAE3-96D6-4072-B056-DA78DA20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B278EF-25EF-4728-B9E1-62D20680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3D510-22D8-4997-8E8D-BA75513C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4A36D6-6164-47E9-832B-0BE0CD22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FE322C-00B3-407A-B2EF-17E9BFB0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5F9F122-0578-4AC4-9E00-4A77F53B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A7981D-8005-4F3D-8123-472FF675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4DE58B-DFA5-4A1C-B9DA-97F84C7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E1A36D-6DFF-4E04-BE98-0089E607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4E84D7-CCEE-45E0-BD83-F2D52C13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19325F9-90B2-4A71-AAEE-C39D8816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70E447-DE4B-4A62-9F01-DD2E5DFE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0C010CD-3388-4182-8F15-2E28785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E6F8-EA1D-4913-A693-76CF6885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A1ACFA0-F9CD-4E11-BB08-FC9BCE45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97CA7B3-60CF-4DA2-B726-7C076D29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DC36968-1843-427B-877D-39EACCC5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3E0C770-3032-4A4A-A3AF-0322A930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0946CD-3057-434B-B11E-6E7EF9D7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1503D8D-6348-4E4F-B0CF-AEF1572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8055D89-B019-4D1E-8FFD-3A0C1375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F29F64-80A5-41E3-9F01-EA372964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452B152-F999-452F-AC53-9BA0A255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808D229-0426-4744-B8E8-95765754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C57DB-6FCB-4717-9362-1FD6DF4A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BF8547-50AE-48CE-B34A-64D05D91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92B4EDB-F5F4-4A31-99BC-B2A4000F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5564413-E9D0-46AA-8CA0-9B363FC0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4B76F67-AC81-4955-A969-5055815B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8F35995-FB7F-4C0D-BE8A-A5B94043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94617D9-C77E-41E5-A03E-6B64276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18CF41F-70B8-4914-B2CD-10B7CE57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2B50B2F-0A87-4831-AD14-DC8EE10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41185F9-5661-428E-856C-0EF7B2E6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F3850C-B275-4806-B96A-807DA11C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6A8-64CA-44BB-A5D4-69AC15B1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CBD73-93B9-4136-A6F3-0D750F16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B76BC53-33FC-4221-9488-8A08CBEB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DF35AC8-AD7E-498E-92B9-885460D8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CE7A27-A294-4931-9EFB-E2E5164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8737ACE-6461-4DE8-94DB-D5B48E2C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13085B1-F0F8-43AA-B25D-9265A0D6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2D371D1-6D2D-4A37-8560-95D293C3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BA426B-639B-47B8-982E-30147D9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9B651D-DBBB-4976-B46A-B639D1E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2504343-89E7-49EE-A5EE-49B39D7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3B335D4-F684-494D-96A1-4D58813F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AE78B-D800-4042-894E-23CEEB59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8FAACA8-2409-4910-826F-521719EE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2381921-459E-4B11-ADF5-635CBA9E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829ED87-6D5F-49E9-B8BF-DC9CFE1D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BD8F4A7-5CE6-4D74-99C3-085AB321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71E25E6-A2EB-4837-98F6-D24EB650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20E5DD-AE23-4350-B9AB-8BBF9BDA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8BF69F-5717-41A6-B54F-F7CF5D2D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95D30E9-A56A-4A5F-B6CF-95E52A0D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D544CD8-DFAC-44D6-9632-AD73C1A2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81A4C00-5353-44C6-B0D3-4768C65F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3FF1-E9FC-4919-B237-12AEB5F7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B951317-1873-4017-B3D9-C2A3CDFB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5B7E41A-F4D0-423A-A6CC-47457A78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33B83C5-869B-45EE-9263-2B328D48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E907338-41BB-4782-AAAE-313D1339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0314A75-E98A-410F-B793-6565A1F2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242BBD-3EA8-4ED6-B4EF-DEC81AC0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38F4CFE-39BF-4822-BF22-AF82E72B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05DCBA0-9BF7-461A-9944-825B59BB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57AB960-CDD2-451A-961A-8E06DDED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EEF2CE-8403-48E0-92A4-B83F691F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2715-DC8D-4A93-9673-B690CAFE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3E17F9-F0B7-4137-B1A7-716AC8D7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AE6BF37-EF82-44A0-8D36-06096393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42D2C03-EDE9-4C8C-A6C3-BDAE197F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742B13D-4D90-45A5-84C5-09E87EB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276D050-7DA2-47EB-BB01-00AE6825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951A0A-47CF-42C4-A10F-3C272048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E700F61-AA87-4651-839B-3898BB13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9573AC-4A0C-4BF0-87F9-720EEDDF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1340E78-F353-44CF-9EC5-56802361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10ABBA5-1E50-4891-B8CB-242736E2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819D-E8C2-4189-944E-6881F089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79974E2-E8F0-4DDA-95B8-3F13EDDF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D5DEA3C-45B4-4C8A-8DA1-54FCCB49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044F473-7057-466D-B232-72F0768F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5812ACA-851E-49B0-8746-390483A1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3560B8-0EA5-42A9-94B3-BB41F94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D5E40CE-4206-4C7C-BD4F-9E01A6D9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9402D7-EA83-4913-BF81-9A812368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399B103-0025-4985-B20A-CF0AD06E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F2EF1C4-AF6B-4A76-8377-EC1BC31C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F93E09F-45C8-41C3-B627-6893994D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22546-57A0-418B-8C65-3732DA0E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495B26A-C100-4D84-A4D7-7D824168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4D3170-A3E1-4D7E-A13C-4FC41A0C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C357D68-A892-40F3-8513-A2F06FA5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6F7E99A-AE7C-4D69-B577-195E1202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3E5C58D-A7C8-4BED-A431-0522E83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E08BE89-7538-42F8-9F8D-E92F3366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DFAED7-A8F7-43DD-AB78-009D9AD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C648800-B86A-413F-AE62-BE7C745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410B8DE-6E6D-411A-9246-2BFEB3D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E848655-17B3-4D24-B959-4AA36022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8A2D5-BCEE-405B-B79D-FD104E82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9B5547F-FBB3-4832-8700-E280F698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D965928-A7B1-424B-A167-74C99D88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1067B82-DF66-4C07-AC96-0EF26E2B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50A7D7-16EE-41BA-BDF5-15F35E8F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F273E8-F267-4E6A-B2BB-AA76F0DE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C1CF098-6514-43B3-BA98-DE170478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761492A-0051-45C8-B85B-B6B4F3F0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13705A-F430-4FF2-A697-E4924D9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276ECDC-1439-4402-AD0B-6A8BB4CC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3657FFF-190B-427F-BC59-C3CE14F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3C5CA-4979-4061-B0DD-78066D53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B5695D4-157E-43B9-A415-A8C70222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696E87C-A64D-4AE8-A919-76FE3248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36A97C-0FAC-47B6-8594-D582FA53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4F3967C-42AB-47BC-A869-39FC19B2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98B5600-6450-4EE3-B690-8ED4E8CF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D7C89C7-9BD6-4F45-A1BF-6118B2FF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450DEE2-6D63-4228-909C-D16AC5A7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DE6E7CF-5890-445C-A1F8-4A6D8AAE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863FD8F-487A-43D3-83DB-14B759EF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5DD4885-6656-48FF-9181-AB0EDD3C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5809-8AD9-450D-8D2F-7A19553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8E91278-2E15-4A7A-9D10-2C7509C1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17D7B5F-3C79-4697-8D12-02DCDC1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E97349B-80B9-404E-AF71-67AEE32C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08AA713-6860-4FB4-807E-8DF67177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FA5C08D-C15F-4F7A-B47B-BA3543F9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A6809B0-79C3-45AD-9A95-6163E56F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41B7BD8-ECE9-461A-B1C9-D577C977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84638B6-F581-47AE-A308-D0053525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0604582-E416-47F5-835C-94466F18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D7B2FD-3ED4-46C9-8EEB-9EF532A1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E2EEE-4C48-47C6-BD04-54C05045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0D87A9D-8625-4CA6-92B2-E0236264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0544BFC-7DBE-449A-9A0E-9F2ADAF5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66342CD-A92B-4CBF-9AB1-D30A6D0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A375439-6D2F-49AC-A252-BDF3461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24A6F4B-A4C3-4134-B868-A2A1E336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0982A8E-759A-4A66-8A45-8F1850F2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4A8687E-3226-4D0F-A788-25408878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16036D0-D076-4E40-AD46-91E02679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F370B48-FF52-4A65-A760-A564CA60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47598DF-0326-4161-8B7D-74E29E75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4AA-BEAD-4A6D-BC6A-9DA1FE29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D1488-BC2B-4E4A-A3F6-E5AAC4FD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2807752-9A83-43B5-BF55-54AD609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60E943A-29D3-402B-A984-DEE383DC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721DEB8-F814-4E19-B007-A0C9E43F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7767F79-1819-40A1-AAB3-00AC4046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9D06179-6E81-4EC4-8DD5-6932138D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EE2D1DD-8DFD-48B9-A862-12A75721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59B07A5-98D0-4A85-8718-FA68941F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692346-E524-4AC0-A391-C2FD5B5B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AE010B4-BC83-4D22-98B9-5EDD1B50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1823E0D-1955-4A5A-B692-B0FB31A1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D910A-8E79-46D8-8124-AC701DEC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5135DE8-5BF2-4621-B8F9-6F2303D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A558364-C2C6-4DBB-8E07-1D6CC9A7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A0EB575-EA62-4CFA-9E06-C878D13B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7097ED2-215C-4551-BECB-2732A2B1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0951006-CC5C-4714-AF96-344B22C5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CD7F6B0-D610-400F-A348-9C9C0DF7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46138F4-9FA2-4BB8-AA68-5B220EBF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FC46D93-56CE-4D6E-B732-0FE093A6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BFF068-35CB-4EE0-9785-1AC66ADD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1CEF925-2B57-44E9-8DF4-C930A511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9982F-046A-4EA4-978B-70ADB21F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0FF6FFB-6427-4A1F-938A-A2ECF05E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4421-B73C-4232-BB61-00B1207F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26B12-E3B7-4B14-ABEC-C951230A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59B46-3A68-4460-BBC5-F3B9DD1D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9FF33-B07C-4F99-B01D-31A69238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AF088-402C-4CC0-803C-FA6EBFF5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8A89-5571-45E3-92D0-7D8DA683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5302F-B404-48EC-8EA8-E8EDF291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BC1-17B7-4BAC-AC90-E087361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4A651-979D-43A2-BB8D-04EBA430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83AC8-DC37-4BB4-97B6-BA68DC18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E8C04-3F90-4F2C-A719-585BF176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E81C2-EBC0-4B59-937A-DE9DF6B2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76E31-7F8C-48AF-8869-ED5E46B5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8FAC-F001-45F9-9EDD-CF182357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112C6-E6F4-4C80-9B65-FA807AB3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10CAC-D2AE-4271-9088-927F236D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CBC31-158E-4A09-9C8F-BDAA05A8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16034-0E82-4603-ACEF-C9B52E97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8AA-7DA0-4043-8321-A231B31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5408F-D65B-43C4-B3B0-43B76E13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6AF21-9F9D-453D-9D5B-8D5BCA8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511F1-6333-4615-BB36-9F1CF032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FEDEF-11CE-49FF-91BD-46658B72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481DD-E9FF-487E-A2E6-4F435DF6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F8F40-94BE-4858-AEB2-37CAC957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98CF4-F994-4E02-BA12-715A18D7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65EA5-284F-47FC-9909-5CCEEA76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4C9AE-903A-4AD6-AF8D-5F44FE83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A39CF-E7FF-495A-AB46-02D7984B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5DC0-A520-4990-AE36-3527692155DA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439D-91B7-4C23-AC97-9D57F5728E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11E4-6299-4121-B9F4-3D9F14D0D17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887D-3FF9-4E0F-BEFC-6859B6F4BD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5486-E953-436C-A322-01E36BE0A48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AF16-C0C4-46B1-86CF-80E95F61E97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3C16-D795-4E72-9CA5-75D8459B9B1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2E2F-86CD-4AE3-92A7-2155214F1132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551C-6173-4D33-9FB2-123AAC12C7B6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4CD8-DDCF-48B9-AADE-AA282ACF475E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BF58-2378-4728-BA22-3520F587DC6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570-529D-4388-A6F2-6458E84F3B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D26D-6322-44EF-8C0C-4CA43B14E92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DCB1-064C-4811-A8C8-0F0E23DF61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E239-B4FB-4C2D-9EFE-2987873681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1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E327-51DD-4F48-AA2B-349D1A1DA63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7C34-4BE8-4418-9679-EFE6F4CEA2D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324B-8D42-4118-8EE9-6DBEAE834A3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6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6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3A4E-9B71-476A-BA6F-BA427A6C84B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BD73-E0E1-4104-A19F-6F51B2E9DE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8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8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0A37-E490-4E0D-BAA0-120410AE151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1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2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2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8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8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67E-5A14-45FD-B930-4B535D978E2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5EF6-33FC-4E40-B729-3805913F5B4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8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9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A4A8-9347-4321-9B0C-DE70D16717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9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9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B601-4EEC-433B-BBC2-7BE3F416910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7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7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9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9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A648-27B8-433E-88B9-4C655CD6170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ftr" idx="9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 type="sldNum" idx="9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8D29-3F64-419B-A1F0-72C5D3DC21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0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0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897C-AF06-4967-A616-65CF23AFA6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2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2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3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0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0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AD0B-F8A2-4957-A695-E21A916AFE5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 type="ftr" idx="10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 type="sldNum" idx="10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1AFF-8FB0-430D-952E-0C3D567CAF8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 type="ftr" idx="1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 type="sldNum" idx="1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FAE1-A4DA-4DB8-AE4D-236552834DF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8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8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8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1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7D0A-EC37-482B-A661-ADEEB8C27AB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ftr" idx="11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 type="sldNum" idx="11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15EB-8664-4AEA-9F16-C24F12E036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9890-E741-489C-A790-15B401323DD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 type="ftr" idx="11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 type="sldNum" idx="12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A91B-7FCE-453D-BADD-6E0971C2773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 type="ftr" idx="12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 type="sldNum" idx="12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E4E6-023A-49AF-8E27-EF96878DF7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2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2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024-8AB5-47E3-B7F1-3C64BAFBB0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 type="ftr" idx="12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 type="sldNum" idx="12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9CA0-D6BD-4C4C-A272-11D49ED193E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 type="ftr" idx="13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 type="sldNum" idx="13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2F2E-E382-474F-9369-025B25A4FE4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ftr" idx="13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 type="sldNum" idx="13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416F-5430-4D02-928F-3A289B4E4E9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3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3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18CB-7FB7-40CC-86E9-EB8098C6D8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4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4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6079-F003-4374-A2D2-C5D259AF083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4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4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8B29-03E7-4829-9D18-2D2D2F0BB45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 type="ftr" idx="14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 type="sldNum" idx="14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C028-D356-49EB-B913-05236230AB8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1114-6190-402C-B67A-61045ECF541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0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 type="ftr" idx="14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 type="sldNum" idx="15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5E67-327B-433D-90C6-EC24514E773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5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5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08E2-69AE-4F6D-8AFE-BB8BF722A1D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5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5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F76D-86CC-4E7E-A9C6-32AE893F2DA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5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5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 type="ftr" idx="15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 type="sldNum" idx="15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1EF5-170E-48EF-86E1-4723FF8B38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ftr" idx="16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 type="sldNum" idx="16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4F08-DF64-47BB-B2A4-E2D9061DDEC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 type="ftr" idx="16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 type="sldNum" idx="16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4282-75D0-49F6-9754-5F4E6FF5618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0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0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 type="ftr" idx="16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 type="sldNum" idx="16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EFA4-60D1-4156-8217-336EBAF90C5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 type="ftr" idx="17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 type="sldNum" idx="17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2303-92DC-4C24-B294-87C0F78611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17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17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2BE7-BFBF-46A7-9A47-BCC22A902D0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6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 type="ftr" idx="17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5"/>
          <p:cNvSpPr>
            <a:spLocks noGrp="1"/>
          </p:cNvSpPr>
          <p:nvPr>
            <p:ph type="sldNum" idx="17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B5C-50C1-4D7A-AC55-3BEB024974A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EB85-757D-4A18-AFCE-47D7025C266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 type="ftr" idx="17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 type="sldNum" idx="18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EF40-71A6-4709-9942-39FF0B349F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6376-FDC7-4487-ACFC-49F0D296427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BD9F-5418-476F-92B5-D063E6DBB3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0DA4-9A7A-49F9-87C1-059B6A9846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#Slide 10" TargetMode="External"/><Relationship Id="rId2" Type="http://schemas.openxmlformats.org/officeDocument/2006/relationships/hyperlink" Target="file:///&#1055;&#1044;&#1044;2.ppt#Slide 11" TargetMode="External"/><Relationship Id="rId3" Type="http://schemas.openxmlformats.org/officeDocument/2006/relationships/hyperlink" Target="file:///&#1055;&#1044;&#1044;2.ppt#Slide 12" TargetMode="External"/><Relationship Id="rId4" Type="http://schemas.openxmlformats.org/officeDocument/2006/relationships/hyperlink" Target="file:///&#1055;&#1044;&#1044;2.ppt#Slide 13" TargetMode="External"/><Relationship Id="rId5" Type="http://schemas.openxmlformats.org/officeDocument/2006/relationships/hyperlink" Target="file:///&#1055;&#1044;&#1044;2.ppt#Slide 14" TargetMode="External"/><Relationship Id="rId6" Type="http://schemas.openxmlformats.org/officeDocument/2006/relationships/hyperlink" Target="file:///&#1055;&#1044;&#1044;2.ppt#Slide 15" TargetMode="External"/><Relationship Id="rId7" Type="http://schemas.openxmlformats.org/officeDocument/2006/relationships/hyperlink" Target="file:///&#1055;&#1044;&#1044;2.ppt#Slide 16" TargetMode="External"/><Relationship Id="rId8" Type="http://schemas.openxmlformats.org/officeDocument/2006/relationships/hyperlink" Target="file:///&#1055;&#1044;&#1044;2.ppt#Slide 17" TargetMode="External"/><Relationship Id="rId9" Type="http://schemas.openxmlformats.org/officeDocument/2006/relationships/hyperlink" Target="file:///&#1055;&#1044;&#1044;2.ppt#Slide 18" TargetMode="External"/><Relationship Id="rId10" Type="http://schemas.openxmlformats.org/officeDocument/2006/relationships/hyperlink" Target="file:///&#1055;&#1044;&#1044;2.ppt#Slide 19" TargetMode="External"/><Relationship Id="rId11" Type="http://schemas.openxmlformats.org/officeDocument/2006/relationships/hyperlink" Target="file:///&#1055;&#1044;&#1044;2.ppt#Slide 20" TargetMode="External"/><Relationship Id="rId12" Type="http://schemas.openxmlformats.org/officeDocument/2006/relationships/hyperlink" Target="file:///&#1055;&#1044;&#1044;2.ppt#Slide 21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jpeg"/><Relationship Id="rId3" Type="http://schemas.openxmlformats.org/officeDocument/2006/relationships/image" Target="../media/image7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slide" Target="slide32.xml"/><Relationship Id="rId12" Type="http://schemas.openxmlformats.org/officeDocument/2006/relationships/slide" Target="slide33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&#1055;&#1044;&#1044;2.ppt" TargetMode="External"/><Relationship Id="rId6" Type="http://schemas.openxmlformats.org/officeDocument/2006/relationships/image" Target="../media/image13.png"/><Relationship Id="rId7" Type="http://schemas.openxmlformats.org/officeDocument/2006/relationships/hyperlink" Target="file:///&#1055;&#1044;&#1044;2.ppt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&#1055;&#1044;&#1044;2.ppt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file:///&#1055;&#1044;&#1044;2.ppt" TargetMode="Externa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Box 7"/>
          <p:cNvSpPr/>
          <p:nvPr/>
        </p:nvSpPr>
        <p:spPr>
          <a:xfrm>
            <a:off x="324000" y="85716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Правила дорожного дви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2" name="Группа 10"/>
          <p:cNvGrpSpPr/>
          <p:nvPr/>
        </p:nvGrpSpPr>
        <p:grpSpPr>
          <a:xfrm>
            <a:off x="214200" y="2500200"/>
            <a:ext cx="2714760" cy="4140360"/>
            <a:chOff x="214200" y="2500200"/>
            <a:chExt cx="2714760" cy="4140360"/>
          </a:xfrm>
        </p:grpSpPr>
        <p:pic>
          <p:nvPicPr>
            <p:cNvPr id="3063" name="Рисунок 4" descr="1730.gif"/>
            <p:cNvPicPr/>
            <p:nvPr/>
          </p:nvPicPr>
          <p:blipFill>
            <a:blip r:embed="rId1"/>
            <a:stretch/>
          </p:blipFill>
          <p:spPr>
            <a:xfrm>
              <a:off x="214200" y="5215320"/>
              <a:ext cx="928800" cy="13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4" name="Рисунок 5" descr="post-26681-0-37452900-1369904148.jpg"/>
            <p:cNvPicPr/>
            <p:nvPr/>
          </p:nvPicPr>
          <p:blipFill>
            <a:blip r:embed="rId2"/>
            <a:stretch/>
          </p:blipFill>
          <p:spPr>
            <a:xfrm>
              <a:off x="214200" y="3929040"/>
              <a:ext cx="965880" cy="14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5" name="Рисунок 6" descr="hotel.jpg"/>
            <p:cNvPicPr/>
            <p:nvPr/>
          </p:nvPicPr>
          <p:blipFill>
            <a:blip r:embed="rId3"/>
            <a:srcRect l="16251" t="0" r="16251" b="0"/>
            <a:stretch/>
          </p:blipFill>
          <p:spPr>
            <a:xfrm>
              <a:off x="214200" y="2500200"/>
              <a:ext cx="9644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6" name="Рисунок 7" descr="54179480-fuyuitcu1fygcggb.gif"/>
            <p:cNvPicPr/>
            <p:nvPr/>
          </p:nvPicPr>
          <p:blipFill>
            <a:blip r:embed="rId4"/>
            <a:stretch/>
          </p:blipFill>
          <p:spPr>
            <a:xfrm>
              <a:off x="1143000" y="5331240"/>
              <a:ext cx="8571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7" name="Рисунок 8" descr="post-26681-0-37452900-1369904148.jpg"/>
            <p:cNvPicPr/>
            <p:nvPr/>
          </p:nvPicPr>
          <p:blipFill>
            <a:blip r:embed="rId5"/>
            <a:stretch/>
          </p:blipFill>
          <p:spPr>
            <a:xfrm>
              <a:off x="2000160" y="5286600"/>
              <a:ext cx="928800" cy="13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8" name="Рисунок 9" descr="16a.jpg"/>
          <p:cNvPicPr/>
          <p:nvPr/>
        </p:nvPicPr>
        <p:blipFill>
          <a:blip r:embed="rId6"/>
          <a:stretch/>
        </p:blipFill>
        <p:spPr>
          <a:xfrm>
            <a:off x="6931080" y="2498760"/>
            <a:ext cx="1622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Прямоугольник 2"/>
          <p:cNvSpPr/>
          <p:nvPr/>
        </p:nvSpPr>
        <p:spPr>
          <a:xfrm>
            <a:off x="1285920" y="642960"/>
            <a:ext cx="73882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транспортные средства по Правилам относятся к маршрутным транспортным средства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5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Прямоугольник 2"/>
          <p:cNvSpPr/>
          <p:nvPr/>
        </p:nvSpPr>
        <p:spPr>
          <a:xfrm>
            <a:off x="714240" y="117360"/>
            <a:ext cx="7632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Сколько перекрестков изображено на рисун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7" name="Рисунок 4" descr="22-1.jpg"/>
          <p:cNvPicPr/>
          <p:nvPr/>
        </p:nvPicPr>
        <p:blipFill>
          <a:blip r:embed="rId1"/>
          <a:stretch/>
        </p:blipFill>
        <p:spPr>
          <a:xfrm>
            <a:off x="928800" y="100008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098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Прямоугольник 2"/>
          <p:cNvSpPr/>
          <p:nvPr/>
        </p:nvSpPr>
        <p:spPr>
          <a:xfrm>
            <a:off x="785880" y="500040"/>
            <a:ext cx="7745400" cy="12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На каком рисунке изображена дорога с разделительной полос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0" name="Рисунок 3" descr="25-1.jpg"/>
          <p:cNvPicPr/>
          <p:nvPr/>
        </p:nvPicPr>
        <p:blipFill>
          <a:blip r:embed="rId1"/>
          <a:stretch/>
        </p:blipFill>
        <p:spPr>
          <a:xfrm>
            <a:off x="928800" y="135720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10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Прямоугольник 2"/>
          <p:cNvSpPr/>
          <p:nvPr/>
        </p:nvSpPr>
        <p:spPr>
          <a:xfrm>
            <a:off x="611280" y="692280"/>
            <a:ext cx="82818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ой маневр совершает легковой автомобил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Рисунок 3" descr="33-1.jpg"/>
          <p:cNvPicPr/>
          <p:nvPr/>
        </p:nvPicPr>
        <p:blipFill>
          <a:blip r:embed="rId1"/>
          <a:stretch/>
        </p:blipFill>
        <p:spPr>
          <a:xfrm>
            <a:off x="714240" y="1857240"/>
            <a:ext cx="7620120" cy="2857680"/>
          </a:xfrm>
          <a:prstGeom prst="rect">
            <a:avLst/>
          </a:prstGeom>
          <a:ln w="0">
            <a:noFill/>
          </a:ln>
        </p:spPr>
      </p:pic>
      <p:pic>
        <p:nvPicPr>
          <p:cNvPr id="3104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43920" y="57150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Прямоугольник 2"/>
          <p:cNvSpPr/>
          <p:nvPr/>
        </p:nvSpPr>
        <p:spPr>
          <a:xfrm>
            <a:off x="826920" y="692280"/>
            <a:ext cx="80312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По каким частям дороги должны перемещаться пешехо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Прямоугольник 2"/>
          <p:cNvSpPr/>
          <p:nvPr/>
        </p:nvSpPr>
        <p:spPr>
          <a:xfrm>
            <a:off x="357120" y="692280"/>
            <a:ext cx="8786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2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 следует поступить если пешеход не  успел закончить переход дорог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8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Прямоугольник 2"/>
          <p:cNvSpPr/>
          <p:nvPr/>
        </p:nvSpPr>
        <p:spPr>
          <a:xfrm>
            <a:off x="826920" y="692280"/>
            <a:ext cx="8031240" cy="87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еобходимо двигаться пешеходу при движении по краю проезжей част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Прямоугольник 2"/>
          <p:cNvSpPr/>
          <p:nvPr/>
        </p:nvSpPr>
        <p:spPr>
          <a:xfrm>
            <a:off x="714240" y="214200"/>
            <a:ext cx="817272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ужно переходить дорогу если в зоне видимости нет пешеходного переход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2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то должен быть пристегнут ремнями безопасности  при поездк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4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Прямоугольник 2"/>
          <p:cNvSpPr/>
          <p:nvPr/>
        </p:nvSpPr>
        <p:spPr>
          <a:xfrm>
            <a:off x="324000" y="692280"/>
            <a:ext cx="85690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детям до 12-ти лет ездить на переднем сиденье автомобиля рядом с водител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Прямоугольник 2"/>
          <p:cNvSpPr/>
          <p:nvPr/>
        </p:nvSpPr>
        <p:spPr>
          <a:xfrm>
            <a:off x="468360" y="69228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перевозить детей в возрасте до 12 лет на заднем сиденье мотоцикла если на них есть мотошл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8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огда можно производить посадку и высадку в/из транспортного сред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Прямоугольник 2"/>
          <p:cNvSpPr/>
          <p:nvPr/>
        </p:nvSpPr>
        <p:spPr>
          <a:xfrm>
            <a:off x="826920" y="692280"/>
            <a:ext cx="79599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ОВОЗОК, МОПЕДОВ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Прямоугольник 3"/>
          <p:cNvSpPr/>
          <p:nvPr/>
        </p:nvSpPr>
        <p:spPr>
          <a:xfrm>
            <a:off x="358920" y="307188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С какого возраста можно управлять велосипед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3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00960" y="4857840"/>
            <a:ext cx="98100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Прямоугольник 2"/>
          <p:cNvSpPr/>
          <p:nvPr/>
        </p:nvSpPr>
        <p:spPr>
          <a:xfrm>
            <a:off x="826920" y="692280"/>
            <a:ext cx="7632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ОЗОК, МОПЕДОВ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-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Прямоугольник 3"/>
          <p:cNvSpPr/>
          <p:nvPr/>
        </p:nvSpPr>
        <p:spPr>
          <a:xfrm>
            <a:off x="358920" y="2643120"/>
            <a:ext cx="87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управлять велосипедом или мопедом одной ру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6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Прямоугольник 2"/>
          <p:cNvSpPr/>
          <p:nvPr/>
        </p:nvSpPr>
        <p:spPr>
          <a:xfrm>
            <a:off x="857160" y="301680"/>
            <a:ext cx="76327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Обязан ли водитель автомобиля уступить дорогу велосипедисту, который движется по велосипедной дорожке, пересекающей проезжую ч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8" name="Рисунок 5" descr="velodoroga.jpg"/>
          <p:cNvPicPr/>
          <p:nvPr/>
        </p:nvPicPr>
        <p:blipFill>
          <a:blip r:embed="rId1"/>
          <a:stretch/>
        </p:blipFill>
        <p:spPr>
          <a:xfrm>
            <a:off x="2286000" y="1714680"/>
            <a:ext cx="4768920" cy="1785600"/>
          </a:xfrm>
          <a:prstGeom prst="rect">
            <a:avLst/>
          </a:prstGeom>
          <a:ln w="0">
            <a:noFill/>
          </a:ln>
        </p:spPr>
      </p:pic>
      <p:pic>
        <p:nvPicPr>
          <p:cNvPr id="3129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Прямоугольник 2"/>
          <p:cNvSpPr/>
          <p:nvPr/>
        </p:nvSpPr>
        <p:spPr>
          <a:xfrm>
            <a:off x="1116000" y="69228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Прямоугольник 3"/>
          <p:cNvSpPr/>
          <p:nvPr/>
        </p:nvSpPr>
        <p:spPr>
          <a:xfrm>
            <a:off x="214200" y="2071800"/>
            <a:ext cx="875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велосипедисту поворачивать налево или разворачиваться на дорогах с трамвайными путя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2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2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ет этот 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4" name="Рисунок 6" descr="i.jpg"/>
          <p:cNvPicPr/>
          <p:nvPr/>
        </p:nvPicPr>
        <p:blipFill>
          <a:blip r:embed="rId1"/>
          <a:stretch/>
        </p:blipFill>
        <p:spPr>
          <a:xfrm>
            <a:off x="1071720" y="135720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3135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Прямоугольник 2"/>
          <p:cNvSpPr/>
          <p:nvPr/>
        </p:nvSpPr>
        <p:spPr>
          <a:xfrm>
            <a:off x="785880" y="214200"/>
            <a:ext cx="835812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Знаки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акой из знаков распространяет свое действие только на ту полосу, над которой он установл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7" name="Рисунок 4" descr="pdd_04_03.jpg"/>
          <p:cNvPicPr/>
          <p:nvPr/>
        </p:nvPicPr>
        <p:blipFill>
          <a:blip r:embed="rId1"/>
          <a:stretch/>
        </p:blipFill>
        <p:spPr>
          <a:xfrm>
            <a:off x="1428840" y="1357200"/>
            <a:ext cx="6545160" cy="2500560"/>
          </a:xfrm>
          <a:prstGeom prst="rect">
            <a:avLst/>
          </a:prstGeom>
          <a:ln w="0">
            <a:noFill/>
          </a:ln>
        </p:spPr>
      </p:pic>
      <p:pic>
        <p:nvPicPr>
          <p:cNvPr id="3138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42148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Прямоугольник 2"/>
          <p:cNvSpPr/>
          <p:nvPr/>
        </p:nvSpPr>
        <p:spPr>
          <a:xfrm>
            <a:off x="324000" y="692280"/>
            <a:ext cx="8640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6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запрещено в зоне действия этого знак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0" name="Рисунок 3" descr="pdd_02_04.jpg"/>
          <p:cNvPicPr/>
          <p:nvPr/>
        </p:nvPicPr>
        <p:blipFill>
          <a:blip r:embed="rId1"/>
          <a:srcRect l="39504" t="6806" r="38000" b="10744"/>
          <a:stretch/>
        </p:blipFill>
        <p:spPr>
          <a:xfrm>
            <a:off x="1000080" y="857160"/>
            <a:ext cx="2500200" cy="3500640"/>
          </a:xfrm>
          <a:prstGeom prst="rect">
            <a:avLst/>
          </a:prstGeom>
          <a:ln w="0">
            <a:noFill/>
          </a:ln>
        </p:spPr>
      </p:pic>
      <p:pic>
        <p:nvPicPr>
          <p:cNvPr id="314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36432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8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ют эти  зна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3" name="Рисунок 4" descr="B1.jpg"/>
          <p:cNvPicPr/>
          <p:nvPr/>
        </p:nvPicPr>
        <p:blipFill>
          <a:blip r:embed="rId1"/>
          <a:stretch/>
        </p:blipFill>
        <p:spPr>
          <a:xfrm>
            <a:off x="1357200" y="1928880"/>
            <a:ext cx="2344680" cy="2052720"/>
          </a:xfrm>
          <a:prstGeom prst="rect">
            <a:avLst/>
          </a:prstGeom>
          <a:ln w="0">
            <a:noFill/>
          </a:ln>
        </p:spPr>
      </p:pic>
      <p:pic>
        <p:nvPicPr>
          <p:cNvPr id="3144" name="Рисунок 6" descr="151923_w640_h640_23.gif"/>
          <p:cNvPicPr/>
          <p:nvPr/>
        </p:nvPicPr>
        <p:blipFill>
          <a:blip r:embed="rId2"/>
          <a:stretch/>
        </p:blipFill>
        <p:spPr>
          <a:xfrm>
            <a:off x="5572080" y="192888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3145" name="Рисунок 7" descr="16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92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1" name=""/>
          <p:cNvGraphicFramePr/>
          <p:nvPr/>
        </p:nvGraphicFramePr>
        <p:xfrm>
          <a:off x="214200" y="189000"/>
          <a:ext cx="8750520" cy="6492960"/>
        </p:xfrm>
        <a:graphic>
          <a:graphicData uri="http://schemas.openxmlformats.org/drawingml/2006/table">
            <a:tbl>
              <a:tblPr/>
              <a:tblGrid>
                <a:gridCol w="2187720"/>
                <a:gridCol w="2187720"/>
                <a:gridCol w="2187360"/>
                <a:gridCol w="2187720"/>
              </a:tblGrid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ЩИЕ ПОЛОЖЕНИ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62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ЕШЕХОД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0128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АССАЖИР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Прямоугольник 2"/>
          <p:cNvSpPr/>
          <p:nvPr/>
        </p:nvSpPr>
        <p:spPr>
          <a:xfrm>
            <a:off x="324000" y="692280"/>
            <a:ext cx="86407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Если на перекрестке работает и светофор и регулировщик, чьи требования должны выполнять участники дорожного дви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7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Прямоугольник 2"/>
          <p:cNvSpPr/>
          <p:nvPr/>
        </p:nvSpPr>
        <p:spPr>
          <a:xfrm>
            <a:off x="179280" y="54936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Прямоугольник 3"/>
          <p:cNvSpPr/>
          <p:nvPr/>
        </p:nvSpPr>
        <p:spPr>
          <a:xfrm>
            <a:off x="250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При движении по нерегулируемому перекрестку кто должен уступить дорогу- водитель автомобиля или водитель трамва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0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92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Прямоугольник 2"/>
          <p:cNvSpPr/>
          <p:nvPr/>
        </p:nvSpPr>
        <p:spPr>
          <a:xfrm>
            <a:off x="571680" y="692280"/>
            <a:ext cx="8393040" cy="71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2" name="Рисунок 5" descr="24-15.jpg"/>
          <p:cNvPicPr/>
          <p:nvPr/>
        </p:nvPicPr>
        <p:blipFill>
          <a:blip r:embed="rId1"/>
          <a:stretch/>
        </p:blipFill>
        <p:spPr>
          <a:xfrm>
            <a:off x="1071720" y="1571760"/>
            <a:ext cx="6858000" cy="2571480"/>
          </a:xfrm>
          <a:prstGeom prst="rect">
            <a:avLst/>
          </a:prstGeom>
          <a:ln w="0">
            <a:noFill/>
          </a:ln>
        </p:spPr>
      </p:pic>
      <p:sp>
        <p:nvSpPr>
          <p:cNvPr id="3153" name="Прямоугольник 6"/>
          <p:cNvSpPr/>
          <p:nvPr/>
        </p:nvSpPr>
        <p:spPr>
          <a:xfrm>
            <a:off x="1071720" y="430380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В каком случае водитель автомобиля должен уступить дорогу пешеход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4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Прямоугольник 2"/>
          <p:cNvSpPr/>
          <p:nvPr/>
        </p:nvSpPr>
        <p:spPr>
          <a:xfrm>
            <a:off x="571680" y="476280"/>
            <a:ext cx="839304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Водитель автомобиля собирается повернуть налево. Кому он должен уступить доро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гу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6" name="Рисунок 5" descr="22-13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2320" cy="3214800"/>
          </a:xfrm>
          <a:prstGeom prst="rect">
            <a:avLst/>
          </a:prstGeom>
          <a:ln w="0">
            <a:noFill/>
          </a:ln>
        </p:spPr>
      </p:pic>
      <p:pic>
        <p:nvPicPr>
          <p:cNvPr id="3157" name="Рисунок 6" descr="16a.jpg"/>
          <p:cNvPicPr/>
          <p:nvPr/>
        </p:nvPicPr>
        <p:blipFill>
          <a:blip r:embed="rId2"/>
          <a:stretch/>
        </p:blipFill>
        <p:spPr>
          <a:xfrm>
            <a:off x="8501040" y="58896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8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59" name="Рисунок 2" descr="0dca325a3df8183b04658f64cfeb3c74.jpg"/>
          <p:cNvPicPr/>
          <p:nvPr/>
        </p:nvPicPr>
        <p:blipFill>
          <a:blip r:embed="rId2"/>
          <a:stretch/>
        </p:blipFill>
        <p:spPr>
          <a:xfrm>
            <a:off x="1500120" y="785880"/>
            <a:ext cx="2409840" cy="5691240"/>
          </a:xfrm>
          <a:prstGeom prst="rect">
            <a:avLst/>
          </a:prstGeom>
          <a:ln w="0">
            <a:noFill/>
          </a:ln>
        </p:spPr>
      </p:pic>
      <p:sp>
        <p:nvSpPr>
          <p:cNvPr id="3160" name="TextBox 3"/>
          <p:cNvSpPr/>
          <p:nvPr/>
        </p:nvSpPr>
        <p:spPr>
          <a:xfrm>
            <a:off x="4143240" y="1285920"/>
            <a:ext cx="5000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разрешает движение такой жест регулировщ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1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2" name="Рисунок 2" descr="post-26681-0-37452900-1369904148.jpg"/>
          <p:cNvPicPr/>
          <p:nvPr/>
        </p:nvPicPr>
        <p:blipFill>
          <a:blip r:embed="rId2"/>
          <a:stretch/>
        </p:blipFill>
        <p:spPr>
          <a:xfrm>
            <a:off x="428760" y="1214280"/>
            <a:ext cx="2939760" cy="4286520"/>
          </a:xfrm>
          <a:prstGeom prst="rect">
            <a:avLst/>
          </a:prstGeom>
          <a:ln w="0">
            <a:noFill/>
          </a:ln>
        </p:spPr>
      </p:pic>
      <p:sp>
        <p:nvSpPr>
          <p:cNvPr id="3163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4" name="Рисунок 1" descr="cat.gif"/>
          <p:cNvPicPr/>
          <p:nvPr/>
        </p:nvPicPr>
        <p:blipFill>
          <a:blip r:embed="rId1"/>
          <a:stretch/>
        </p:blipFill>
        <p:spPr>
          <a:xfrm>
            <a:off x="6929280" y="5000760"/>
            <a:ext cx="1881360" cy="1542960"/>
          </a:xfrm>
          <a:prstGeom prst="rect">
            <a:avLst/>
          </a:prstGeom>
          <a:ln w="0">
            <a:noFill/>
          </a:ln>
        </p:spPr>
      </p:pic>
      <p:pic>
        <p:nvPicPr>
          <p:cNvPr id="3165" name="Рисунок 3" descr="910391-2313fb9273fe50dc.jpg"/>
          <p:cNvPicPr/>
          <p:nvPr/>
        </p:nvPicPr>
        <p:blipFill>
          <a:blip r:embed="rId2"/>
          <a:stretch/>
        </p:blipFill>
        <p:spPr>
          <a:xfrm>
            <a:off x="785880" y="928800"/>
            <a:ext cx="7119720" cy="2714400"/>
          </a:xfrm>
          <a:prstGeom prst="rect">
            <a:avLst/>
          </a:prstGeom>
          <a:ln w="0">
            <a:noFill/>
          </a:ln>
        </p:spPr>
      </p:pic>
      <p:sp>
        <p:nvSpPr>
          <p:cNvPr id="3166" name="TextBox 4"/>
          <p:cNvSpPr/>
          <p:nvPr/>
        </p:nvSpPr>
        <p:spPr>
          <a:xfrm>
            <a:off x="785880" y="4071960"/>
            <a:ext cx="6357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автомобиль может продолжить движ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7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8" name="Рисунок 2" descr="uploads_2010_02_12_02_17_03_1.jpg"/>
          <p:cNvPicPr/>
          <p:nvPr/>
        </p:nvPicPr>
        <p:blipFill>
          <a:blip r:embed="rId2"/>
          <a:stretch/>
        </p:blipFill>
        <p:spPr>
          <a:xfrm>
            <a:off x="2286000" y="714240"/>
            <a:ext cx="4675320" cy="3286440"/>
          </a:xfrm>
          <a:prstGeom prst="rect">
            <a:avLst/>
          </a:prstGeom>
          <a:ln w="0">
            <a:noFill/>
          </a:ln>
        </p:spPr>
      </p:pic>
      <p:sp>
        <p:nvSpPr>
          <p:cNvPr id="3169" name="TextBox 3"/>
          <p:cNvSpPr/>
          <p:nvPr/>
        </p:nvSpPr>
        <p:spPr>
          <a:xfrm>
            <a:off x="357120" y="4500720"/>
            <a:ext cx="614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Для кого предназначен этот светоф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0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1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2" name="Рисунок 4" descr="3_010.jpg"/>
          <p:cNvPicPr/>
          <p:nvPr/>
        </p:nvPicPr>
        <p:blipFill>
          <a:blip r:embed="rId2"/>
          <a:stretch/>
        </p:blipFill>
        <p:spPr>
          <a:xfrm>
            <a:off x="428760" y="1571760"/>
            <a:ext cx="3071520" cy="30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3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4" name="TextBox 3"/>
          <p:cNvSpPr/>
          <p:nvPr/>
        </p:nvSpPr>
        <p:spPr>
          <a:xfrm>
            <a:off x="3714840" y="3571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акой знак обозначает кемпин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Рисунок 7" descr="1002.jpg"/>
          <p:cNvPicPr/>
          <p:nvPr/>
        </p:nvPicPr>
        <p:blipFill>
          <a:blip r:embed="rId2"/>
          <a:srcRect l="16142" t="0" r="16142" b="0"/>
          <a:stretch/>
        </p:blipFill>
        <p:spPr>
          <a:xfrm>
            <a:off x="3429000" y="3429000"/>
            <a:ext cx="2000160" cy="2954160"/>
          </a:xfrm>
          <a:prstGeom prst="rect">
            <a:avLst/>
          </a:prstGeom>
          <a:ln w="0">
            <a:noFill/>
          </a:ln>
        </p:spPr>
      </p:pic>
      <p:pic>
        <p:nvPicPr>
          <p:cNvPr id="3176" name="Рисунок 8" descr="1730.gif"/>
          <p:cNvPicPr/>
          <p:nvPr/>
        </p:nvPicPr>
        <p:blipFill>
          <a:blip r:embed="rId3"/>
          <a:stretch/>
        </p:blipFill>
        <p:spPr>
          <a:xfrm>
            <a:off x="571680" y="3429000"/>
            <a:ext cx="2071440" cy="2927520"/>
          </a:xfrm>
          <a:prstGeom prst="rect">
            <a:avLst/>
          </a:prstGeom>
          <a:ln w="0">
            <a:noFill/>
          </a:ln>
        </p:spPr>
      </p:pic>
      <p:pic>
        <p:nvPicPr>
          <p:cNvPr id="3177" name="Рисунок 9" descr="7_9.png"/>
          <p:cNvPicPr/>
          <p:nvPr/>
        </p:nvPicPr>
        <p:blipFill>
          <a:blip r:embed="rId4"/>
          <a:stretch/>
        </p:blipFill>
        <p:spPr>
          <a:xfrm>
            <a:off x="571680" y="285840"/>
            <a:ext cx="2143080" cy="2900160"/>
          </a:xfrm>
          <a:prstGeom prst="rect">
            <a:avLst/>
          </a:prstGeom>
          <a:ln w="0">
            <a:noFill/>
          </a:ln>
        </p:spPr>
      </p:pic>
      <p:pic>
        <p:nvPicPr>
          <p:cNvPr id="3178" name="Прямоугольник 10" descr=""/>
          <p:cNvPicPr/>
          <p:nvPr/>
        </p:nvPicPr>
        <p:blipFill>
          <a:blip r:embed="rId5"/>
          <a:stretch/>
        </p:blipFill>
        <p:spPr>
          <a:xfrm>
            <a:off x="1584360" y="2163600"/>
            <a:ext cx="1287360" cy="1524240"/>
          </a:xfrm>
          <a:prstGeom prst="rect">
            <a:avLst/>
          </a:prstGeom>
          <a:ln w="0">
            <a:noFill/>
          </a:ln>
        </p:spPr>
      </p:pic>
      <p:pic>
        <p:nvPicPr>
          <p:cNvPr id="3179" name="Прямоугольник 12" descr=""/>
          <p:cNvPicPr/>
          <p:nvPr/>
        </p:nvPicPr>
        <p:blipFill>
          <a:blip r:embed="rId6"/>
          <a:stretch/>
        </p:blipFill>
        <p:spPr>
          <a:xfrm>
            <a:off x="1657440" y="5237280"/>
            <a:ext cx="1287360" cy="1517400"/>
          </a:xfrm>
          <a:prstGeom prst="rect">
            <a:avLst/>
          </a:prstGeom>
          <a:ln w="0">
            <a:noFill/>
          </a:ln>
        </p:spPr>
      </p:pic>
      <p:pic>
        <p:nvPicPr>
          <p:cNvPr id="3180" name="Прямоугольник 13" descr=""/>
          <p:cNvPicPr/>
          <p:nvPr/>
        </p:nvPicPr>
        <p:blipFill>
          <a:blip r:embed="rId7"/>
          <a:stretch/>
        </p:blipFill>
        <p:spPr>
          <a:xfrm>
            <a:off x="4443480" y="5237280"/>
            <a:ext cx="128736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Box 7"/>
          <p:cNvSpPr/>
          <p:nvPr/>
        </p:nvSpPr>
        <p:spPr>
          <a:xfrm>
            <a:off x="324000" y="2708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TextBox 1"/>
          <p:cNvSpPr/>
          <p:nvPr/>
        </p:nvSpPr>
        <p:spPr>
          <a:xfrm>
            <a:off x="357120" y="0"/>
            <a:ext cx="8143920" cy="87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писок использованных источ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ttp://pddmaster.ru/documents/pd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правила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светофора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1%81%D0%B2%D0%B5%D1%82%D0%BE%D1%84%D0%BE%D1%80&amp;fp=0&amp;img_url=http%3A%2F%2Fcs403527.userapi.com%2Fg40611363%2Fe_b4e8b2a8.jpg&amp;pos=3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кота в мешке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0%BA%D0%BE%D1%82%20%D0%B2%20%D0%BC%D0%B5%D1%88%D0%BA%D0%B5&amp;fp=0&amp;img_url=http%3A%2F%2F4.bp.blogspot.com%2F_SJm3-n4SO0o%2FTKG5KDurxzI%2FAAAAAAAAE8s%2Fp5xUyO8kb7Y%2Fs1600%2F1.JPG&amp;pos=0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знаков дорожного движения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kuruh.ru/dorzn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дорожных ситуаций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avto-russia.ru/pd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ВТОРО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6" name=""/>
          <p:cNvGraphicFramePr/>
          <p:nvPr/>
        </p:nvGraphicFramePr>
        <p:xfrm>
          <a:off x="250920" y="189000"/>
          <a:ext cx="8569080" cy="672156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  <a:gridCol w="2143080"/>
              </a:tblGrid>
              <a:tr h="1310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ВИЖЕНИЕ ВЕЛОСИПЕДОВ, ПОВОЗОК, МОПЕД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КИ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8229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ЕЗД ПЕРЕКРЕСТК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ТРЕТИЙ 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TextBox 3"/>
          <p:cNvSpPr/>
          <p:nvPr/>
        </p:nvSpPr>
        <p:spPr>
          <a:xfrm>
            <a:off x="1357200" y="64296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0" name="Рисунок 4" descr="ca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14308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1" name="Рисунок 5" descr="ca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35780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2" name="Рисунок 6" descr="ca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71960" y="4429080"/>
            <a:ext cx="1738440" cy="1425600"/>
          </a:xfrm>
          <a:prstGeom prst="rect">
            <a:avLst/>
          </a:prstGeom>
          <a:ln w="0">
            <a:noFill/>
          </a:ln>
        </p:spPr>
      </p:pic>
      <p:pic>
        <p:nvPicPr>
          <p:cNvPr id="3083" name="Рисунок 7" descr="cat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29280" y="4500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4" name="Рисунок 8" descr="cat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5" name="Рисунок 9" descr="ca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6" name="Прямоугольник 10" descr=""/>
          <p:cNvPicPr/>
          <p:nvPr/>
        </p:nvPicPr>
        <p:blipFill>
          <a:blip r:embed="rId13"/>
          <a:stretch/>
        </p:blipFill>
        <p:spPr>
          <a:xfrm>
            <a:off x="1871640" y="2444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7" name="Прямоугольник 11" descr=""/>
          <p:cNvPicPr/>
          <p:nvPr/>
        </p:nvPicPr>
        <p:blipFill>
          <a:blip r:embed="rId14"/>
          <a:stretch/>
        </p:blipFill>
        <p:spPr>
          <a:xfrm>
            <a:off x="772956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8" name="Прямоугольник 12" descr=""/>
          <p:cNvPicPr/>
          <p:nvPr/>
        </p:nvPicPr>
        <p:blipFill>
          <a:blip r:embed="rId15"/>
          <a:stretch/>
        </p:blipFill>
        <p:spPr>
          <a:xfrm>
            <a:off x="487044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9" name="Прямоугольник 13" descr=""/>
          <p:cNvPicPr/>
          <p:nvPr/>
        </p:nvPicPr>
        <p:blipFill>
          <a:blip r:embed="rId16"/>
          <a:stretch/>
        </p:blipFill>
        <p:spPr>
          <a:xfrm>
            <a:off x="1871640" y="46641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0" name="Прямоугольник 14" descr=""/>
          <p:cNvPicPr/>
          <p:nvPr/>
        </p:nvPicPr>
        <p:blipFill>
          <a:blip r:embed="rId17"/>
          <a:stretch/>
        </p:blipFill>
        <p:spPr>
          <a:xfrm>
            <a:off x="7656480" y="251784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1" name="Прямоугольник 15" descr=""/>
          <p:cNvPicPr/>
          <p:nvPr/>
        </p:nvPicPr>
        <p:blipFill>
          <a:blip r:embed="rId18"/>
          <a:stretch/>
        </p:blipFill>
        <p:spPr>
          <a:xfrm>
            <a:off x="4870440" y="2517840"/>
            <a:ext cx="1285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Box 7"/>
          <p:cNvSpPr/>
          <p:nvPr/>
        </p:nvSpPr>
        <p:spPr>
          <a:xfrm>
            <a:off x="0" y="285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26:47Z</dcterms:created>
  <dc:creator>U.R.</dc:creator>
  <dc:description/>
  <dc:language>en-US</dc:language>
  <cp:lastModifiedBy>Турова Жанна</cp:lastModifiedBy>
  <dcterms:modified xsi:type="dcterms:W3CDTF">2022-11-13T20:00:08Z</dcterms:modified>
  <cp:revision>93</cp:revision>
  <dc:subject/>
  <dc:title>Слайд 1</dc:title>
</cp:coreProperties>
</file>